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5BE-5BCB-40EB-B074-86619BD3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6B2-3B71-4C69-BACE-ED633B8D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790-094B-49F7-A68B-196D3128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D18-A449-491C-AF76-565BCAF0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33F5-380C-4798-8160-633EDEA9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FD46-EFB0-4BCD-81C7-43F98730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5651-B447-4657-9A12-4D298C89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39C4-E292-4DED-8A02-9CAC6957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2779-3DAA-4479-879E-E9B4D464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C1EF-1EE9-44B6-996C-05C0435A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B5A7-49F0-4E02-AAB1-AEBB28D6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CE5-432B-4F0E-BDE8-8196C696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FA7F-6F23-48DE-9E84-A8EAC23E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60D5-0BF3-4BAB-A5E8-E8D3B5A8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198F-380C-4960-9EB2-BD2C42F5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FD99-FB06-4C37-8872-07CB5D68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9CDA-4A14-4E4E-82F6-34088A8A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F09-19D6-4676-8D45-883EFE16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8A9-4CA4-4019-A89D-86295DF3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476-DE40-4166-B78C-2428FE77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0E7-CE51-4787-B404-160C28DD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E5E-A5EC-4AAA-AF4E-3F5484B3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9FF-BDD5-46C3-AE13-B90C04E1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745-7B8C-4E98-86D0-91A3DF11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8E7C-ED51-4C18-B3AD-6AF5869BE0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5C77-CEDA-4444-9965-2A2904064A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_Humphrey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Image:Nixon_30-0316a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ixon_30-0316a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esidentialtimeline.org/html/record.php?id=307&amp;noNav&amp;noMeta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21.1:  The Nixon Administra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ing to Middle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.  Nixon and Vietnamiz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lent maj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mainstream Americans who quietly supported the president’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owing for the Vietnamese to take a more active role by withdrawing U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with honor… “save face”; wanted a say at negotiati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ly continues to bomb supply routes in N. Vietnam military bases, Laos and Cambo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esidential Election 196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ert Humphrey 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M. Nixon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Hubert Humphr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905120"/>
            <a:ext cx="2908440" cy="360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ichard Nix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ern Suppo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. Strom Thurmond (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ern Strategy – slow desegregation in exchange for continue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-and-or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med at antiwar prote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reme Court criticized for expanding rights of the acc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rvative 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Richard Nix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w Federalis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size of the federal government and give state and local gov’t mor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-sharing – federal funds that the states will decide how to uti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ntended consequen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overturn Great Society programs: HUD, OEO, Job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Getting back at the Democratic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onstitu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mily Assistance Pl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amping Aid to Families with Dependent Children (AF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to Family Assistanc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1,600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 be supplem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ized by both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ixon, China &amp; the S.U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10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tnamization = Nixon Doctrine; all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of détente – easing cold war 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ed by wars in Chile and Ang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. 1972 Nixon visits China = bette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Leonid Brezhnev @ Mos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 Arms Limitation Treaty (SALT 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Photograph of President and Mrs. Richard Nixon Touring the Great Wall of Ch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76520"/>
            <a:ext cx="368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05-18T12:51:4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